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1EDA-A83A-4BBB-B3F4-E0A870218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AC43-BA3F-4E85-8C59-BD1F7DC9D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6855-333B-4054-9D83-00AB3B2D5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EBF-D391-492C-AB54-8DF43C8C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606-7767-4C81-B7EF-0335E5A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2CB-9AC7-45BA-8E59-957D7922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A85-61CE-4BEC-89B6-0FD02D74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005-331E-499A-A2B2-80395E09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FC6-E4D3-4B4A-BA93-17DEC55E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189-30B4-4641-95F2-3326C846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A45-43F2-447E-91E0-4D5AB313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F63-BDB3-4791-A4FB-CC2327FD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305-BDB1-47E5-92F8-B5BDF3B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7E1-AF3C-40BA-B74E-A015757F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F16-8637-4F6A-A871-8D03C022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E6A0-A424-4D54-A514-B1340D1894A8}" type="slidenum">
              <a:rPr b="0" lang="ru-RU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4920" y="1628640"/>
            <a:ext cx="8559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Planul de afaceri privind activitate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unei afaceri soci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lena Bordi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ompan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ceasă zonă  este despre cultura organizatională, despre oamenii care dezvoltă afacerea  și tot ceea ce e special în afacer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Care e misiunea, viziunea, valorile, organigram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Cine sunt angajașii CHEIE, care sunt performanțele lor, cine face parte din echipa de decizie, ce consultanți avem, mentori, dacă îi ave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3800" spc="-1" strike="noStrike">
                <a:solidFill>
                  <a:srgbClr val="c00000"/>
                </a:solidFill>
                <a:latin typeface="Calibri Light"/>
              </a:rPr>
              <a:t>PLANUL FINANCIAR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Zona estimărilor esenți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Trebuie sa fie la LEU, 100% acurat si foarte clar setat. Fiecare cheltuială, fixă, variabilă,  linie de veni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Tot aici se setează planul de investiții, sursele - pâna la sustenabilitate sau atingerea pragului de rentabilitat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dică, de câți bani ai nevoie, în ce îi vei investi și mai ales pîna când vei avea nevoie, ca sa ajungă săînregistreze profit. Tot aici si Prognoza de venituri și cheltuieli - pe primii 3 ani de zil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Anex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ici punem tot ce e relevant și poate conține planul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Studii de piat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ezultate focus grup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apoarte industr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nalize competit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Cv-urile angajaților che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orice e de folos pentru ca un investitor să poată să vadă că ai un plan de afacere seri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6462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PAGINA DE TITLU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serveşte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ept copertă pentru planul de afaceri şi conţine informaţii privind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umirea complectă a întreprinderi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ul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rii planului de afac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le şi prenume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eprenorulu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ărul de telefon, fax, e-mail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ul întocmirii planului de afacer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trimitere la confidenţialitatea informaţ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Cuprinsu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201780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compartimentele de bază ale planului de afaceri cu indicarea paginilor la care se află acestea, pentru a uşura găsirea informaţiei necesare de către persoana cointeresat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6"/>
          <p:cNvSpPr/>
          <p:nvPr/>
        </p:nvSpPr>
        <p:spPr>
          <a:xfrm>
            <a:off x="250920" y="260280"/>
            <a:ext cx="43923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umaru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as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Planul de mark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1 Piaţa şi consumat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2 Concurenţ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3 Plasamentul şi distribui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4 Politica de pre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5 Promov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643280" y="189000"/>
            <a:ext cx="40341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Planul operaț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1 Descrierea procesului tehno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2 Schema fiz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3 Necesarul de spațiu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chipament, consumabile şi costurile acesto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4 Furniz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Necesarul de resurse um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1 Structura organizator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2Necesarul de resurse umane şi remunerarea l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 .Planul de finanț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1 Cheltuieli de lansare a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2 Bilanțul contab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3 Prognoza veniturilor şi a cheltuieli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4 Raportul privind rezultatul financi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1080" y="404640"/>
            <a:ext cx="7648560" cy="6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Suma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34560" y="981000"/>
            <a:ext cx="78138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firmei (denumire, adresa juridică, fondatori, capiral social, bunuri la moment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afacerii (de unde a venit ideea, situaţia actuală, produsele sau serviciile oferite, piaţa pe care se găsesc consumatorii, personalul, factorii cheie de succes, previziuni ale veniturilor, cheltuielilor, profitului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sursele financiare necesare pentru realizare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ului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ma dorită pentru finanţare, scopul şi modul de utilizare, capitalul social existen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zultatele economico-financiare aştepta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00000" y="4641840"/>
            <a:ext cx="5543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I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</a:t>
            </a: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f88608"/>
                </a:solidFill>
                <a:latin typeface="Times New Roman"/>
              </a:rPr>
              <a:t>                                  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Â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BD04896_"/>
          <p:cNvPicPr/>
          <p:nvPr/>
        </p:nvPicPr>
        <p:blipFill>
          <a:blip r:embed="rId1"/>
          <a:stretch/>
        </p:blipFill>
        <p:spPr>
          <a:xfrm>
            <a:off x="7311960" y="5554800"/>
            <a:ext cx="1192320" cy="116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N00222_"/>
          <p:cNvPicPr/>
          <p:nvPr/>
        </p:nvPicPr>
        <p:blipFill>
          <a:blip r:embed="rId2"/>
          <a:stretch/>
        </p:blipFill>
        <p:spPr>
          <a:xfrm>
            <a:off x="2629080" y="4195800"/>
            <a:ext cx="920520" cy="9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BD05610_"/>
          <p:cNvPicPr/>
          <p:nvPr/>
        </p:nvPicPr>
        <p:blipFill>
          <a:blip r:embed="rId3"/>
          <a:stretch/>
        </p:blipFill>
        <p:spPr>
          <a:xfrm>
            <a:off x="5310360" y="4205160"/>
            <a:ext cx="102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odulul 1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424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 de afacere/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ăsurate (domeniul de activitate, cum a evoluat acest domeniu, forma organizatorico-juridică aleas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 (toată gama de servicii sau produse, caracteristici, beneficii pentru consummat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etc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560"/>
            <a:ext cx="8336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Obiectivul acestui capitol este de a prezenta descriptiv afacerea în general, identificând activitățile care vor genera venituri în cadrul întreprinder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este sau ce va fi businessul tău? Tipul de business: comerţ, producere sau servici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Modelul businessului tău: eşti singur proprietar, ai partener/ri sau cooperativ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Starea businessului: este vorba de un business nou sau este vorba de o extindere, sau de o achiziţie a unui business activ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e piaţă îţi propui să deserveşti; care este volumul ei şi care ar fi segmentul de piaţă pe care ai dori să-l acoper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a putea compania ta să deservească piaţa mai bine decât concurenţii? De ce va fi profitabil businessul tă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um vei obține produsul? Descrie paşii necesari pentru a produce produsul tău şi pentru a-l duce pe piaţ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echipă managerială şi alt personal dispui şi care este necesarul pentru a realiza afacere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ând vei porni (sau ai pornit) afacerea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un împrumut sau altă investiţie din partea cuiva (în cazul când este relevant) va face businessul mai profitabil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500"/>
            </a:br>
            <a:r>
              <a:rPr b="1" lang="ro-RO" sz="35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200" y="2041560"/>
            <a:ext cx="3886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mplu/ u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ș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r 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28880" y="2112480"/>
            <a:ext cx="3886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Dificil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greu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838080" y="3182760"/>
            <a:ext cx="7886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Timp de 10 min. identificați aspectele menționate în chenarele de mai sus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Argumentați, pe cât posibil, răspunsuril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4000" spc="-1" strike="noStrike">
                <a:solidFill>
                  <a:srgbClr val="c00000"/>
                </a:solidFill>
                <a:latin typeface="Times New Roman"/>
              </a:rPr>
              <a:t>Scopul                        Obiectivel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9840" y="1872720"/>
            <a:ext cx="38718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Formularea scopului poate fi legat d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Diversificarea gamei de servic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tinderea ariei geograf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Creșterea cifrei de afacer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 prof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Moderniza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Atingerea și menținerea unui anumit nivel din cota de piaț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214960" y="1873080"/>
            <a:ext cx="31021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ncre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Orientate în tim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ăsur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Rea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/realiz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Flexi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e ce este importanta Analiza SWOT pentru afacerea ta | Coface ..."/>
          <p:cNvPicPr/>
          <p:nvPr/>
        </p:nvPicPr>
        <p:blipFill>
          <a:blip r:embed="rId1"/>
          <a:stretch/>
        </p:blipFill>
        <p:spPr>
          <a:xfrm>
            <a:off x="179280" y="115920"/>
            <a:ext cx="8964720" cy="554364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250920" y="5445000"/>
            <a:ext cx="8713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500" spc="-1" strike="noStrike">
                <a:solidFill>
                  <a:srgbClr val="c00000"/>
                </a:solidFill>
                <a:latin typeface="Calibri Light"/>
                <a:ea typeface="Arial"/>
              </a:rPr>
              <a:t>Instrument managerial pentru eficientizarea activității afacerii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De ce este necesară </a:t>
            </a:r>
            <a:br>
              <a:rPr sz="3300"/>
            </a:b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                 analiza SWOT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844640"/>
            <a:ext cx="6132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contribui la analiza situaţiei exist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juta la definirea strategie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servi ca sursă de informaţie  la analiza riscuril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dăuga o valoare considerabilă planului DVS.,pentru că va prezenta informația de asamblu despre afac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PE01622_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Domenii pentru identificarea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atuutilor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 </a:t>
            </a:r>
            <a:r>
              <a:rPr b="1" lang="ro-RO" sz="3200" spc="-1" strike="noStrike">
                <a:solidFill>
                  <a:srgbClr val="0563c1"/>
                </a:solidFill>
                <a:latin typeface="Times New Roman"/>
              </a:rPr>
              <a:t>slă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biciunilor</a:t>
            </a: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268280"/>
          <a:ext cx="8058240" cy="5631120"/>
        </p:xfrm>
        <a:graphic>
          <a:graphicData uri="http://schemas.openxmlformats.org/drawingml/2006/table">
            <a:tbl>
              <a:tblPr/>
              <a:tblGrid>
                <a:gridCol w="1839960"/>
                <a:gridCol w="3191040"/>
                <a:gridCol w="30272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l de activitate a întreprinder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3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Atuur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Slăbiciun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ducţ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alitatea înaltă a produ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enţă proprie de fabricaţ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Uzura fizică şi morală a echipament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Linie de produs limitat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enţă în domen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Personal califi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Înalt nivel de fluctuaţie a cadrelo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 Servicii post vânz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lienţi fcare periodic apelează la serviciile/produsele compani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ţuri redu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Promovarea slab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Stocuri mari de produse fin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ţ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Controlul financiar rig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hidităț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ibuție prop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Insuficienţa resurselor financ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9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197000"/>
          <a:ext cx="8547120" cy="5662440"/>
        </p:xfrm>
        <a:graphic>
          <a:graphicData uri="http://schemas.openxmlformats.org/drawingml/2006/table">
            <a:tbl>
              <a:tblPr/>
              <a:tblGrid>
                <a:gridCol w="2257560"/>
                <a:gridCol w="3386160"/>
                <a:gridCol w="2903400"/>
              </a:tblGrid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olitici guvername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Oferirea înlesnirilor fiscale ÎMM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Avantaje acordate companiilor concu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aţ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ețe noi, pe care se poate intra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rapidă a pieţ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xistenţa unei concurenţe </a:t>
                      </a:r>
                      <a:r>
                        <a:rPr b="0" lang="en-US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nelo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arteneriate durabile – BtoB, Bt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costurilor la ener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ci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Stabilitatea monedei naţion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grame de susținere a tinerilor fermi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Dobânda bancară înaltă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2286000"/>
          <a:ext cx="8305560" cy="3718080"/>
        </p:xfrm>
        <a:graphic>
          <a:graphicData uri="http://schemas.openxmlformats.org/drawingml/2006/table">
            <a:tbl>
              <a:tblPr/>
              <a:tblGrid>
                <a:gridCol w="2209680"/>
                <a:gridCol w="3641760"/>
                <a:gridCol w="245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1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chimbarea nevoilor şi gusturilor consumatorilor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Reducerea veniturilor populaţi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Tehno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 unor noi tehnologii informaţiona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unor produse substituibi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emograf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 calificat disponibil pe plan lo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Rata joasă a natalităţ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84360" y="547560"/>
          <a:ext cx="8208720" cy="5762880"/>
        </p:xfrm>
        <a:graphic>
          <a:graphicData uri="http://schemas.openxmlformats.org/drawingml/2006/table">
            <a:tbl>
              <a:tblPr/>
              <a:tblGrid>
                <a:gridCol w="2763720"/>
                <a:gridCol w="1222200"/>
                <a:gridCol w="1446480"/>
                <a:gridCol w="1446120"/>
                <a:gridCol w="1330200"/>
              </a:tblGrid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180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44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eriența în 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48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ma de servicii/produ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aț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43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blicitate și comunicare cu clienț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mate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erie prim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92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tare tehnic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4520" y="861480"/>
            <a:ext cx="854856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ategia afacerii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31640" y="1915920"/>
            <a:ext cx="684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ce metode vor fi minimalizate punctele slabe și riscur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diminuăm un ris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area opțiunilor 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rea măsuri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Strategia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 de marketing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 2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.1 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Piaţa şi consumatorii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233360"/>
            <a:ext cx="8713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acteristicile pieţei pe care activează întreprinderea, structura  pieţe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naliza necesităţilor consumatoril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estare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e problemă soluționează afacerea dvs.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 cui problemă soluționăm prin produsul nostr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um identificăm consumatorii noştr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u ajutorul test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ării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Unde se găsesc e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ât de des cumpără ei produsele sau serviciile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e este plus valoarea de care beneciază ei prin procurarea serviciilor/produselor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Identificarea grupului ţintă/Avatarul afaceri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Segmentarea pieţei. Care este segmentul pe care intenţionăm să-l ocupăm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MVP – Produsul minim viabi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2060640"/>
            <a:ext cx="78868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inim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- varianta rudimentară (care se află la începutul dezvoltării sal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iabil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- va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dează necesitățile consumator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Produs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– tangibil, poți să îl testez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200"/>
            </a:br>
            <a:r>
              <a:rPr b="1" lang="ro-RO" sz="32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8120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numerați cel puțin 5 așteptări de la acest program de formare, referindu-vă la următoarele aspec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tructura P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Temele care le doriți să fie a bordate mai mult în discuții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Modulele unui plan de afac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Despre MV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Obiectiv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testeze practic ipotez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optimizeze timpu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construiască credibilitate (voi face – am făc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Avantaj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Costă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Riști cu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Elementele de baz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Funcționabilitate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– trebuie să aibă niște caracteristici clare și evident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Uzabilitate –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implu de folosit</a:t>
            </a: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Design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– atractivitate pentru client (ambalaj, atractivitate estetic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e obții din testare prin MVP?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196640"/>
            <a:ext cx="788688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Identifici segmentul care răspunde pozitiv și care este atras organic de produsul tău (</a:t>
            </a:r>
            <a:r>
              <a:rPr b="1" i="1" lang="ro-RO" sz="2100" spc="-1" strike="noStrike">
                <a:solidFill>
                  <a:srgbClr val="000000"/>
                </a:solidFill>
                <a:latin typeface="Calibri"/>
              </a:rPr>
              <a:t>te-ai gîndit la un profil al consumatorului, dar.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.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formație calitativă și relevant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e baza acestei informații poți crea un formular pentru toți cei care devin clienții tăi , îi rogi să îți răspundă și la niște întrebăr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Îți dai seama dacă ai greșit publicul țint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larificarea unui Avatar de client, pe care il construiești prin experiență pe care ai obținut-o cu ajutorul MVP-ulu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Beneficiile percepute față de beneficiile oferite, ce a contat pentru client, ce reprezintă pentru el valoarea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oziționarea de preț potrivi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analele de promovar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analele de distribuție (cum îi va fi mai ușor să achiziționeze mai ușor produsl tău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struirea/educarea consumatorulu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Calibri Light"/>
              </a:rPr>
              <a:t>Si?...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20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V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testarea 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2888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M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Minim Marketable Product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um promovez și prin ce canale distribui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1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Times New Roman"/>
              </a:rPr>
              <a:t>2.2 </a:t>
            </a:r>
            <a:r>
              <a:rPr b="1" lang="ro-RO" sz="3100" spc="-1" strike="noStrike">
                <a:solidFill>
                  <a:srgbClr val="0000ff"/>
                </a:solidFill>
                <a:latin typeface="Times New Roman"/>
              </a:rPr>
              <a:t>Concurența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907560"/>
            <a:ext cx="81579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ine sunt concurenţii Dvs., de regulă 3-5 întreprind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aracteristica produselor concurenţilo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tuurile şi slăbiciunile concurenţ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naliza comparativă (descrierea situației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ţi afacerea Dvs. şi afacerile concurenţilor Dvs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-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înalt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 –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joas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ţi sincer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ţă de sin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47640" y="2801880"/>
          <a:ext cx="6193080" cy="390060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  <a:gridCol w="1549440"/>
                <a:gridCol w="1548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ii competitivită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acerea Dv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las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litatea produsulu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ci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ilitatea de a vi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ţur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676520"/>
            <a:ext cx="76276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mijloace de promovare a produsului vor fi utiliz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-line, off-line)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care le-am identificat cu ajutorul M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ip de reclamă  se va folos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etul de promovare (costurile pentru promova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vei comunica cu clienț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9600" y="9050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3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movarea afacerii</a:t>
            </a: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anale de comunicar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i (site-ul tău, blogu-ul personal, pagina de fb, baza de date email, vizite organice, magazine, agenți de vânzari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știgate (postări sharuite, like-uri, share-ruri, parteneriate pe termen lung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ătite (reviste, TV, radio,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ți clienții unei afaceri sunt pe canale de comunicare, ei nu sunt acasă și mă duc să le bat la uș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2360" y="549360"/>
            <a:ext cx="779292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4 </a:t>
            </a: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amentul și distribuț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2060640"/>
            <a:ext cx="757080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de va fi amplasată afacerea, care sunt avantajele amplasării dat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ă alte întreprinde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zona dată, inclusiv cele concuren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are sunt facilităţi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enţa parcărilor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BS00393_"/>
          <p:cNvPicPr/>
          <p:nvPr/>
        </p:nvPicPr>
        <p:blipFill>
          <a:blip r:embed="rId1"/>
          <a:stretch/>
        </p:blipFill>
        <p:spPr>
          <a:xfrm>
            <a:off x="6324480" y="4122720"/>
            <a:ext cx="24386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ulul 3. Planul operaţional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017440"/>
            <a:ext cx="84866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1 Descrie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2 Schema fizic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3 Necesarul de spatiu echipament, consumabile şi costurile acestor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4 Furnizo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mage result for ce este procesul de producere al unei afaceri&quot;"/>
          <p:cNvPicPr/>
          <p:nvPr/>
        </p:nvPicPr>
        <p:blipFill>
          <a:blip r:embed="rId1"/>
          <a:stretch/>
        </p:blipFill>
        <p:spPr>
          <a:xfrm>
            <a:off x="995400" y="3789360"/>
            <a:ext cx="73216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PPT - PLANUL DE AFACERI PowerPoint Presentation, free download ...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260280"/>
          <a:ext cx="7991280" cy="5880240"/>
        </p:xfrm>
        <a:graphic>
          <a:graphicData uri="http://schemas.openxmlformats.org/drawingml/2006/table">
            <a:tbl>
              <a:tblPr/>
              <a:tblGrid>
                <a:gridCol w="842760"/>
                <a:gridCol w="2340000"/>
                <a:gridCol w="1722600"/>
                <a:gridCol w="1582560"/>
                <a:gridCol w="1503360"/>
              </a:tblGrid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2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Necesarul de 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umirea echipamentul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.de masur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ta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ș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 de brod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r de căl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ă de cr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ech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nă de cus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călz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i electric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e prim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țiu 20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, l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Ce reprezintă un plan de afaceri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280" y="1341000"/>
            <a:ext cx="8064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6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     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Planul de afaceri este un document confidenţial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în care sunt scrise obiectivele şi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scopurile întreprinderii demonstrându-se în detalii modalităţile de realizare a acesto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re sunt etapele de întocmire a unui pla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e afacer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l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area informaţi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area tipului planulu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ilirea structurii planulu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Împărţirea responsabilităţ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e informaţi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r, extern)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m nevoie pentru a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 un plan de afaceri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iaţ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li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ncur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rocesul de producţ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pacitatea de producţ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Beneficiile PA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 Dacă obiectivele afacerii sunt CLARE, ele sunt CLARE pentru toată lume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2. Știi EXACT care sutn prioritățile și asta știi TOT TIMP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 ȘTII EXACT cui și CE să deleg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4. Poți măsura eficența membrilor ECHIPEI t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5. Îți poți controla CASH FLOW-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6. Contrlezi mesajele de comunicare cu CLIENȚII tă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7. Ești ATRACTIV pentru investitor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8. Compari ușor EFORTURILE cu REZULTATE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9. Știi ca capătul unui an financiar ce MERGE și ce NU MERG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0. În baza planului de afaceri pot trasa noi OBIECTIVE penrtu anul următ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1. Cu timpul devii un EXPERT, care poate veni cu consultanță sau suport pentru alți antreprenori la început de dru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6 zone principale ale unui PA</a:t>
            </a:r>
            <a:br>
              <a:rPr sz="3800"/>
            </a:b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1. Sumarul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How to Write a Summary Essay | AcademicHelp.net"/>
          <p:cNvPicPr/>
          <p:nvPr/>
        </p:nvPicPr>
        <p:blipFill>
          <a:blip r:embed="rId1"/>
          <a:stretch/>
        </p:blipFill>
        <p:spPr>
          <a:xfrm>
            <a:off x="2195640" y="1957320"/>
            <a:ext cx="55450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2. Oportunitate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Picture 2" descr="The Multi-Cloud Opportunity and Challenge -"/>
          <p:cNvPicPr/>
          <p:nvPr/>
        </p:nvPicPr>
        <p:blipFill>
          <a:blip r:embed="rId1"/>
          <a:stretch/>
        </p:blipFill>
        <p:spPr>
          <a:xfrm>
            <a:off x="628560" y="1946160"/>
            <a:ext cx="78868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lemente ale oportunității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1052640"/>
            <a:ext cx="8351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problemă rezolvă produsul/serviciul tău în piața pe care te prezinț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clientul tău țintă și care este rata de adopțti sau cota de piață spre care tinz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are este potențialul produsului tău în piaț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diferențirea ta fașă de competiția existent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va trebi să faci/facă echipa ta pentru a cuceri piața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c00000"/>
                </a:solidFill>
                <a:latin typeface="Calibri"/>
              </a:rPr>
              <a:t>Dacă clarifici aceste aspecte, spune că afacere ta capătă formă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cxecuț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VP (produsul minim valabil -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Să testăm prototipul, să avem feedback de la clienți si să analizăm satisfacția clienților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Planul de v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nzîr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 de mark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dentitatea Brand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ul operaț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ndicatorii urmăriț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ceastă zonă îți permite să vezi dacă produsul tău are relevanță în viața clientulu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06:46:29Z</dcterms:created>
  <dc:creator>Station2</dc:creator>
  <dc:description/>
  <dc:language>en-US</dc:language>
  <cp:lastModifiedBy>User</cp:lastModifiedBy>
  <cp:lastPrinted>2019-08-07T11:47:17Z</cp:lastPrinted>
  <dcterms:modified xsi:type="dcterms:W3CDTF">2021-09-23T11:16:05Z</dcterms:modified>
  <cp:revision>125</cp:revision>
  <dc:subject/>
  <dc:title>PLANIFICAREA AFACERII</dc:title>
</cp:coreProperties>
</file>